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7.png" ContentType="image/png"/>
  <Override PartName="/ppt/media/image56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11.wmf" ContentType="image/x-wmf"/>
  <Override PartName="/ppt/media/image53.png" ContentType="image/png"/>
  <Override PartName="/ppt/media/image10.wmf" ContentType="image/x-wmf"/>
  <Override PartName="/ppt/media/image52.png" ContentType="image/png"/>
  <Override PartName="/ppt/media/image58.wmf" ContentType="image/x-wmf"/>
  <Override PartName="/ppt/media/image60.png" ContentType="image/png"/>
  <Override PartName="/ppt/media/image31.wmf" ContentType="image/x-wmf"/>
  <Override PartName="/ppt/media/image28.png" ContentType="image/png"/>
  <Override PartName="/ppt/media/image3.wmf" ContentType="image/x-wmf"/>
  <Override PartName="/ppt/media/image15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20.wmf" ContentType="image/x-wmf"/>
  <Override PartName="/ppt/media/image63.png" ContentType="image/png"/>
  <Override PartName="/ppt/media/image69.wmf" ContentType="image/x-wmf"/>
  <Override PartName="/ppt/media/image29.png" ContentType="image/png"/>
  <Override PartName="/ppt/media/image22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19.wmf" ContentType="image/x-wmf"/>
  <Override PartName="/ppt/media/image21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50.png" ContentType="image/png"/>
  <Override PartName="/ppt/media/image8.png" ContentType="image/png"/>
  <Override PartName="/ppt/media/image38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1.png" ContentType="image/png"/>
  <Override PartName="/ppt/media/image1.png" ContentType="image/png"/>
  <Override PartName="/ppt/media/image13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D59-D8D4-49AF-9C1E-AB5C972F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BF4-1B82-471D-8347-598E1573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457-EFA7-4184-AF3B-384073A6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C67-D395-4F9E-8FCF-8C299D8E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0438-21E4-45CD-AE15-67F0F6DF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1275-6423-4DF9-A4AC-27C684B6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9C3A-EBA1-4DF1-B516-852A52F8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946E-B7BC-4FE4-85A7-12CA6E99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D6E2-BCE9-409A-A573-D62F692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4CA0-C137-474E-928D-AB0F8522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8A4B-C2AD-495D-A2E7-09183B94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87D-99E7-45C4-88A1-3C3E2643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52BE-FE0F-4D36-A056-FB72CBB0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6EC5-F11C-4341-8FBE-AA90A83E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440B-86F1-43C7-9D7A-1EBBD315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854F-819D-4B5C-8BD6-5F002A7E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76C7-FCC6-463D-BE66-6EC865BB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34D-C1C3-44EC-A1DB-92721FCC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30C-F9AD-4F98-83A7-9CFDB64D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283-B4F0-4C3A-8699-0FE8C8C2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805-3D7C-47E6-B879-E42C4748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069-D3CF-4730-ACB5-EE0FF583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265-90FD-4C19-BD23-2C05E6D7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D8E-79B5-48B5-ACC0-8DB1616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d0036"/>
                </a:gs>
                <a:gs pos="50000">
                  <a:srgbClr val="004a9c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0d003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3D8A-6037-4A35-87AF-3204D45FDF3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d0036"/>
                </a:gs>
                <a:gs pos="50000">
                  <a:srgbClr val="004a9c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0d003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13B-37E0-4096-ABE4-CE7FF0F4D68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 for medical image segmen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r. Sc. Marko Subaši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dominal aortic aneury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largement of abdominal aorta due to weakened aortic w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largement of aorta may lead to aortic wall rap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ful information can be obtained through im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67080" cy="360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11480" y="4437000"/>
            <a:ext cx="198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fur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52671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iac art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242100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l art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2200" y="3716280"/>
            <a:ext cx="184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neurzs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2214720"/>
            <a:ext cx="69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dominal aortic aneury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rrent imaging gold standard is Computerized tomography – angiograph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necessary to extract abdominal aorta from the rest of the abdomen in CT slices – segmenta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results can provide useful information about aneurysm shape, size etc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information is useful in diagnostics, procedure planning, and condition trac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69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is requi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is not a difficult tas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wall is much more problema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67480" y="259092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467480" y="46483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Segmentation of outer aortic borde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ium sediments – calcifications – can appear inside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 intensity in CT scans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still part of the aortic w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some places aorta may touch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 tissue making the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rder between them difficult to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also poses problem to radiologi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2514600" cy="244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19333200">
            <a:off x="7162920" y="3429000"/>
            <a:ext cx="457200" cy="304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64000" y="2492280"/>
            <a:ext cx="1874880" cy="1013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3657600"/>
            <a:ext cx="304560" cy="9907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56000" y="4191120"/>
            <a:ext cx="777960" cy="390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952880" y="5181480"/>
            <a:ext cx="33530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crease of segmentation ti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desired to decrease number of necessary calculations, especially in 3-D c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mit calculations only to DM segments that area actually moving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920" indent="-458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DM has stopped at a certain point no further calculations need to be done for that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528920" indent="-393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troduction of tracking algorithm for D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528920" indent="-393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ints where DM has stopped are excluded from further calcul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920" indent="-458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decrease of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cution time in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gmentation of tube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ke objects like aor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29200" y="5181480"/>
            <a:ext cx="3124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crease of segmentation ti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lti resolution approa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aling of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men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mension is not scal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ling by factor 2 in x and y dimension decreases number of points and number of calculations by 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segmentation has been finished at lower resolution it is continued at full resolution for several it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switching to full resolution function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s decreased by 1 to avoid spilling of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is performed with 3-D DM and poses no significant probl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segmentation results can be used as initialization for aortic wall seg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segmentation of aortic wall knowledge of aortic wall and segmented aortic interior are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hape of the aneurysm is difficult to predict but we can presume that the outer aortic border is  smoo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nters of mass of aortic interior and aortic wall should be near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-D deformable model used in seg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stopping criter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714760" y="4419720"/>
          <a:ext cx="589104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419720"/>
                    <a:ext cx="589104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09480" y="2743200"/>
          <a:ext cx="77248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743200"/>
                    <a:ext cx="77248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581280" y="3124080"/>
                <a:ext cx="23846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39880" y="4191120"/>
                <a:ext cx="2176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39880" y="4952880"/>
                <a:ext cx="2309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σ</m:t>
                                    </m:r>
                                  </m:sub>
                                </m:sSub>
                                <m:r>
                                  <m:t xml:space="preserve">∗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402240" y="4191120"/>
                <a:ext cx="1203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α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92560" y="4191120"/>
                <a:ext cx="860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1" name=""/>
          <p:cNvGraphicFramePr/>
          <p:nvPr/>
        </p:nvGraphicFramePr>
        <p:xfrm>
          <a:off x="6400800" y="4876920"/>
          <a:ext cx="190512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876920"/>
                    <a:ext cx="19051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80880" y="4038480"/>
            <a:ext cx="8229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34320" y="2362320"/>
            <a:ext cx="1752480" cy="531720"/>
            <a:chOff x="6934320" y="2362320"/>
            <a:chExt cx="1752480" cy="5317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934320" y="2362320"/>
                  <a:ext cx="175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V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∇</m:t>
                          </m:r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7812000" y="2724120"/>
              <a:ext cx="14292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ble mod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dominal aortic aneurysm (segmentation, proble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time red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approaches for AAA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952880" y="441972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76520" cy="2236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822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same as in the 1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pproach – 3D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segmentation of aortic wall tracking of moving segments of DM is introduc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-D deformable model is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cking of stre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05520" y="5181480"/>
            <a:ext cx="14475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38280" y="5305320"/>
            <a:ext cx="1187640" cy="1214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62520" y="5562720"/>
            <a:ext cx="685800" cy="457200"/>
          </a:xfrm>
          <a:prstGeom prst="rightArrow">
            <a:avLst>
              <a:gd name="adj1" fmla="val 50000"/>
              <a:gd name="adj2" fmla="val 541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stopping criter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ing curve segment is bounded with stationary points – tracking of moving segments (merging and splitting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on coeffici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read coefficien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pping condi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16360" y="4005360"/>
                <a:ext cx="228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716360" y="4581360"/>
                <a:ext cx="12034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716360" y="5445000"/>
                <a:ext cx="2284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gt;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251320" y="582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2920" y="582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8098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8098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22096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6094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70102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54100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70102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5410080" y="4572000"/>
            <a:ext cx="15242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using 3D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pping of DM penetration into surrounding tissue in aortic wall segmentation – pre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ice by slice reconstruction of outer aortic border with some information flow among neighboring sl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nstruction of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methods are use to enhance outer aortic b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reconstruction of weak outer border knowledge of aortic shape and aneurysm is utiliz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si-convex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tance map and its gradient in radial direction is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992320" y="3581280"/>
          <a:ext cx="32353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3581280"/>
                    <a:ext cx="32353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ifications – sediments of calcium inside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bright regions on CT slices – introduces inhomogeneity into aortic wall re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be used in estimation of position of weak outer aortic b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19320" y="5029200"/>
            <a:ext cx="1369800" cy="1639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1370160" cy="1639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1370160" cy="1639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248520" y="5029200"/>
            <a:ext cx="1639800" cy="1639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315200" y="3352680"/>
            <a:ext cx="136224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0574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36576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52578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68580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4572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20574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3"/>
          <a:stretch/>
        </p:blipFill>
        <p:spPr>
          <a:xfrm>
            <a:off x="36576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5257800" y="3276720"/>
            <a:ext cx="1500120" cy="1555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2280" y="4952880"/>
            <a:ext cx="8763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1911240" cy="2290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1684440" cy="1752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486400" y="4572000"/>
            <a:ext cx="168444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8880" y="4572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168408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15876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548640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191124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3657600" y="265428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0"/>
          <a:stretch/>
        </p:blipFill>
        <p:spPr>
          <a:xfrm>
            <a:off x="7238880" y="2660760"/>
            <a:ext cx="1758960" cy="175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365760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7219800" y="304920"/>
            <a:ext cx="19242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ble models are curves or surfaces defined within an image domain that can move under the influence of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which are defined within the curve or surface itself,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x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which are computed from the image da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2120" y="3962520"/>
          <a:ext cx="7705440" cy="285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77054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348000" y="1557360"/>
          <a:ext cx="579600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1557360"/>
                    <a:ext cx="5796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using 2-D D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ortic interior: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edge ba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er aortic boundary – aortic wall: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egion ba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ice by slice segmentation with information flow among neighboring slic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modifications to overcome problems in aortic wall seg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ization of DM in aortic interior segmentation using neighboring, already segmented sl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-serial slice sequence in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ization in aortic wall segmentation using segmentation results of aortic interi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function i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gion bas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M holds 5 term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tant speed ter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tant expansion of D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vature based term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astic proper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09680" y="3124080"/>
                <a:ext cx="4800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λ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  <m:r>
                          <m:t xml:space="preserve">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7086600" y="2590920"/>
            <a:ext cx="1752480" cy="531720"/>
            <a:chOff x="7086600" y="2590920"/>
            <a:chExt cx="1752480" cy="531720"/>
          </a:xfrm>
        </p:grpSpPr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7086600" y="2590920"/>
                  <a:ext cx="175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V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∇</m:t>
                          </m:r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"/>
            <p:cNvSpPr/>
            <p:nvPr/>
          </p:nvSpPr>
          <p:spPr>
            <a:xfrm>
              <a:off x="7964640" y="2952720"/>
              <a:ext cx="142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012000" y="4005360"/>
                <a:ext cx="804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084720" y="4869000"/>
                <a:ext cx="2221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κ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5905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 that enforces curvature similarity of inner and outer aortic bor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age based component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ly similar pixels are allow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 based on neighboring, already segmented sl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908680" y="2255760"/>
                <a:ext cx="3083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740640" y="3540240"/>
                <a:ext cx="17208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137280" y="5160960"/>
                <a:ext cx="2747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  <m:r>
                          <m:t xml:space="preserve">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12408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93432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943600" y="1600200"/>
            <a:ext cx="1219320" cy="1625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4495680" y="1600200"/>
            <a:ext cx="1219320" cy="1625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391520" y="1600200"/>
            <a:ext cx="1218960" cy="1625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5029200" y="327672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124080" y="327672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6934320" y="3276720"/>
            <a:ext cx="1689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son with manually corrected semiautomatic metho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an correlation coefficient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,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an relative erro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5,39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ndard deviation of relative erro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,68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35680" y="2133720"/>
          <a:ext cx="3976560" cy="41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5680" y="2133720"/>
                    <a:ext cx="397656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methods have been presented for segmentation of abdominal aortic aneurysm that require minimal user interven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four methods are based on geometric deformable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ods differ in a way of solving the specific problem of aortic wall seg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ods have been tested on patient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sible application of the methods is in diagnostics, procedure planning and condition track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four methods do not function well in the presence of strong image degradation such as artifacts produced by metal parts of stent graft de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t is not possible to use these methods in postoperative condition trac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successful is the method that utilizes knowledge of aortic sha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designed to keep the model smooth during de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xternal forces are defined to move the model toward an object boundary or other desired features within an im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Ms often combine several image processing methods and incorporates prior information about object being segmen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bustness to both image noise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boundary ga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oal is to describe the object in the image using a mathematical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deformable model is deformed toward its final shape with the help of various fac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successful application in medical image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le application in 2-D space and also in higher dimensional sp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MET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st type of deformable mod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del is given in parametric 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nable to segment complex objects in a straight forward mann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nable to change top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OMET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re recent d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olution of DM depends on geometric properties rather then parameter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lves problems of parametric D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hanges top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n model complex shap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ometric 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ed on curve evolution theory or minimization of ener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tilizes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evel se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lgorith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urve is represented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licitly as a set of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ero valued p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awback is higher complexity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increased number of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ut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904760" cy="1900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876920"/>
            <a:ext cx="25542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ometric 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2209680"/>
          <a:ext cx="4876560" cy="30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487656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70720" y="3733920"/>
                <a:ext cx="2603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∇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676520" y="5334120"/>
                <a:ext cx="2322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81800" y="4724280"/>
                <a:ext cx="2933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V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391520" y="4648320"/>
            <a:ext cx="228600" cy="685800"/>
          </a:xfrm>
          <a:prstGeom prst="ellipse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1600" y="54100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difference between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rious mode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3:03:47Z</dcterms:created>
  <dc:creator>ZESOI</dc:creator>
  <dc:description/>
  <dc:language>en-US</dc:language>
  <cp:lastModifiedBy>GOR</cp:lastModifiedBy>
  <dcterms:modified xsi:type="dcterms:W3CDTF">2004-07-20T10:35:37Z</dcterms:modified>
  <cp:revision>150</cp:revision>
  <dc:subject/>
  <dc:title>Deformabilni model za segmentaciju medicnskih slika</dc:title>
</cp:coreProperties>
</file>