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38B-DBA4-4DB9-B79B-5CD856FE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93A-9D66-461C-BDF6-50F65B5E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850-5720-4E91-9305-41F8A8A2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191-ABD0-48E0-9C8C-DF8D7CDB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57A-D6C5-4ECD-92DA-107EC16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B00-23B9-4F57-B64D-95683C15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884-986F-47E0-AB77-C50A36A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6A5-019F-4FCE-9DCC-F3F6A31F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03F-6A62-43E1-A9C1-96F01F97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8AE-5367-4C52-B562-6B4F3F72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112-9897-42B6-A0E6-C39DBFF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ADC-2676-4D3D-B9A1-E546D014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0405-AD61-409E-B200-87C9CE4BF65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Rugóra függesztett test mozgásának mérése gyorsulásszenzor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lengési idő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gyorsulásszenzorral mér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rugóállandó mér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illapodó lengési amplitúd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929120" y="2133720"/>
                <a:ext cx="343692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zte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ugóra tömeget függesztü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estre rögzítjük a szenz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sznált csatornák: A (gyorsulásszenz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tavételi rát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00Hz (1ms felbon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00Hz (0,5ms felbon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dőablak: 10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szöbszint: a nyugalmi ért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szterézis: 0,1V (az amplitúdónál kisebb legy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zgést elindí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ünk néhány szintmetszési idő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okat táblázatkezelőbe vihe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lengési időátlagát, szórását számolha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ugóállandó 1-2% pontossággal mér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i adatokat táblázatkezelővel dolgozhatjuk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 időfügg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ugók soros, párhuzamos kapcso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zgés csillapod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ugó helyett gumiszálat is próbál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illapodási tényező függ az anyagt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 hibájának becslé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felbontás: 1/mintavételi r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alap pontossága 0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3:37:35Z</dcterms:modified>
  <cp:revision>115</cp:revision>
  <dc:subject/>
  <dc:title>PowerPoint Presentation</dc:title>
</cp:coreProperties>
</file>