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9922-F00E-4978-ACF9-710681A5A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5E5-4FD4-4EA7-ADAD-639AF18A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089-5FA6-4421-B79B-8F9B4C0C0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55C-36F4-4CC0-8646-0E45CB7F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B4B0-80E9-4F2C-9D4F-ABFB6AFAD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F49C-CC0C-4EC1-B8AB-00341916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0EFF-35CC-4272-B3F6-F1072B24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5A89-AB68-48DB-96CF-D5EB32DE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F452-5B57-4AAC-A1FF-287E548E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6B98-31F4-4A45-A2FF-EC79F00F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2F13-95AB-4562-B8E6-C97C64F1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996-BB68-43C3-8838-7C9B1931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7FDD-0CDC-4013-9C2D-4AF6F96491D8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Gyorsulás mérése szabadesés közb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pasz Katalin, Makra Péter, Gingl Zolt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www.noise.physx.u-szeged.h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Szeged,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Elméleti hátté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abadon eső vonatkoztatási rendszerben a gyorsulás nu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úlytalanság állapo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feldobás is szabadesés, más kezdőfeltétell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ennyire igaz az elméletü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közegellenállás befolyá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Kísérleti elrendez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rúdra rögzítjük a szenz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úd stabilitást 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257880" y="1981080"/>
            <a:ext cx="590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beállítás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asznált csatornák: B (gyorsulásszenzo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álázási adatok : lineá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intavételi rát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100Hz (1ms felbon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200Hz (0,5ms felbontá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Időablak: 10 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mérés men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rudat elejtjük, feldobjuk, majd elkapj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 szabadesés idejére a gyorsulás nul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Mérési eredmény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Összefoglalá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emléltethető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gyorsulás szabadesés köz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lkapási tranziens gyorsul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Tapasztalatok, javaslat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Figyeljünk a szenzor és a vezeték esetleges fokozott igénybevételé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oli</cp:lastModifiedBy>
  <dcterms:modified xsi:type="dcterms:W3CDTF">2010-03-22T23:48:21Z</dcterms:modified>
  <cp:revision>117</cp:revision>
  <dc:subject/>
  <dc:title>PowerPoint Presentation</dc:title>
</cp:coreProperties>
</file>