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7.png" ContentType="image/png"/>
  <Override PartName="/ppt/media/image56.png" ContentType="image/png"/>
  <Override PartName="/ppt/media/image55.png" ContentType="image/png"/>
  <Override PartName="/ppt/media/image12.wmf" ContentType="image/x-wmf"/>
  <Override PartName="/ppt/media/image54.png" ContentType="image/png"/>
  <Override PartName="/ppt/media/image1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8.wmf" ContentType="image/x-wmf"/>
  <Override PartName="/ppt/media/image60.png" ContentType="image/png"/>
  <Override PartName="/ppt/media/image31.wmf" ContentType="image/x-wmf"/>
  <Override PartName="/ppt/media/image28.png" ContentType="image/png"/>
  <Override PartName="/ppt/media/image3.wmf" ContentType="image/x-wmf"/>
  <Override PartName="/ppt/media/image15.png" ContentType="image/png"/>
  <Override PartName="/ppt/media/image35.png" ContentType="image/png"/>
  <Override PartName="/ppt/media/image17.png" ContentType="image/png"/>
  <Override PartName="/ppt/media/image5.png" ContentType="image/png"/>
  <Override PartName="/ppt/media/image20.wmf" ContentType="image/x-wmf"/>
  <Override PartName="/ppt/media/image63.png" ContentType="image/png"/>
  <Override PartName="/ppt/media/image69.wmf" ContentType="image/x-wmf"/>
  <Override PartName="/ppt/media/image29.png" ContentType="image/png"/>
  <Override PartName="/ppt/media/image22.png" ContentType="image/png"/>
  <Override PartName="/ppt/media/image68.png" ContentType="image/png"/>
  <Override PartName="/ppt/media/image67.png" ContentType="image/png"/>
  <Override PartName="/ppt/media/image30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19.wmf" ContentType="image/x-wmf"/>
  <Override PartName="/ppt/media/image2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26.png" ContentType="image/png"/>
  <Override PartName="/ppt/media/image50.png" ContentType="image/png"/>
  <Override PartName="/ppt/media/image8.png" ContentType="image/png"/>
  <Override PartName="/ppt/media/image38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51.png" ContentType="image/png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E94-A8CB-4A0D-84F9-7047D09F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FB3-2C96-4CEE-82ED-EF818765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F58-CF46-49A3-AF2C-E5EE96C6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38E-8CD3-4C7D-9CB1-1986C101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FADF-DF0B-4C3E-9286-CE0A353C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0AF-8579-4D52-BFCB-5EA8FA03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160-F653-4D33-ACE6-6B742D2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9F6F-4375-4DC8-B163-83166986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6AF-5C5B-45AB-8599-730206E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F23A-84A3-426A-9597-0EB0E848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664E-03D4-4224-B0EF-3C8E99B6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A4C-A1B0-4F04-8438-A04B3625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5F4E-0531-422C-8F19-6C288363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8594-7C21-4287-A476-B0EF5CBD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5105-C4B9-4348-8F23-588DD4BB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A6D7-1B69-4D9B-8D9C-5C680CF1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5F6-0058-48D9-878F-4F41269C3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497-B127-4993-8D40-4D4B94A2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6EC-209C-4F0D-AA61-C4F62E8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D96-A83B-4ED9-98EC-75B4AD22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92CA-0418-40BE-893A-8050ED26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96C-A634-432E-A0A8-6852A40D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A71-7CCC-46FF-B3F4-A50DD20F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FA3-BD77-4075-B727-762894C4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167E-7EDF-484B-B309-C37F5E725F0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d0036"/>
                </a:gs>
                <a:gs pos="50000">
                  <a:srgbClr val="004a9c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036"/>
                </a:gs>
                <a:gs pos="50000">
                  <a:srgbClr val="0d0d69"/>
                </a:gs>
                <a:gs pos="100000">
                  <a:srgbClr val="0d003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0d003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69"/>
                </a:gs>
                <a:gs pos="50000">
                  <a:srgbClr val="190056"/>
                </a:gs>
                <a:gs pos="100000">
                  <a:srgbClr val="0d0d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90056"/>
                </a:gs>
                <a:gs pos="50000">
                  <a:srgbClr val="0d0d69"/>
                </a:gs>
                <a:gs pos="100000">
                  <a:srgbClr val="19005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138-D1C1-49B3-AF08-A03E7610097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pn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 for medical image segmentat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r. Sc. Marko Subaši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bdominal aorta due to weakened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largement of aorta may lead to aortic wall rap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ful information can be obtained through imag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267080" cy="3608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811480" y="4437000"/>
            <a:ext cx="1985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fur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526716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iac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00720" y="2421000"/>
            <a:ext cx="8636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al arteri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2200" y="3716280"/>
            <a:ext cx="184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neurzs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4000" y="2214720"/>
            <a:ext cx="690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aor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bdominal aortic aneurys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urrent imaging gold standard is Computerized tomography – angiograph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necessary to extract abdominal aorta from the rest of the abdomen in CT slices – segmenta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results can provide useful information about aneurysm shape, size etc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nformation is useful in diagnostics, procedure planning, and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69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is requir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not a difficult tas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wall is much more problemat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67480" y="2590920"/>
            <a:ext cx="1486080" cy="19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67480" y="4648320"/>
            <a:ext cx="1486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Segmentation of outer aortic border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um sediments – calcifications – can appear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gh intensity in CT scans,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ut still part of the aortic w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ome places aorta may touch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 tissue making the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rder between them difficult to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also poses problem to radiologis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400800" y="2895480"/>
            <a:ext cx="2514600" cy="2446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19333200">
            <a:off x="7162920" y="3429000"/>
            <a:ext cx="457200" cy="3049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364000" y="2492280"/>
            <a:ext cx="1874880" cy="1013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34320" y="3657600"/>
            <a:ext cx="304560" cy="9907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156000" y="4191120"/>
            <a:ext cx="777960" cy="390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952880" y="5181480"/>
            <a:ext cx="3353040" cy="15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desired to decrease number of necessary calculations, especially in 3-D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mit calculations only to DM segments that area actually moving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DM has stopped at a certain point no further calculations need to be done for that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troduction of tracking algorithm for D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528920" indent="-3931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ints where DM has stopped are excluded from further calcul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52920" indent="-458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decrease of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ecution time in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egmentation of tube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ke objects like aor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5181480"/>
            <a:ext cx="3124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crease of segmentation tim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ulti resolution appro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aling of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mension is not scal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aling by factor 2 in x and y dimension decreases number of points and number of calculations by 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fter segmentation has been finished at lower resolution it is continued at full resolution for several it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108080" indent="-533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switching to full resolution functio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decreased by 1 to avoid spilling of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is performed with 3-D DM and poses no significant prob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segmentation results can be used as initialization for aortic wall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segmentation of aortic wall knowledge of aortic wall and segmented aortic interior are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hape of the aneurysm is difficult to predict but we can presume that the outer aortic border is  smoo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enters of mass of aortic interior and aortic wall should be near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-D deformable model used in segment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714760" y="4419720"/>
          <a:ext cx="589104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4419720"/>
                    <a:ext cx="589104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743200"/>
          <a:ext cx="772488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743200"/>
                    <a:ext cx="77248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581280" y="3124080"/>
                <a:ext cx="2384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39880" y="4191120"/>
                <a:ext cx="217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σ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839880" y="4952880"/>
                <a:ext cx="2309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∇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σ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402240" y="4191120"/>
                <a:ext cx="12034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κ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α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92560" y="4191120"/>
                <a:ext cx="8604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6400800" y="4876920"/>
          <a:ext cx="1905120" cy="15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876920"/>
                    <a:ext cx="1905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4038480"/>
            <a:ext cx="8229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34320" y="2362320"/>
            <a:ext cx="1752480" cy="531720"/>
            <a:chOff x="6934320" y="23623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934320" y="23623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7812000" y="2724120"/>
              <a:ext cx="14292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bdominal aortic aneurysm (segmentation, problem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time re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 approaches for AAA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4952880" y="4419720"/>
            <a:ext cx="1822680" cy="22366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7010280" y="2057400"/>
            <a:ext cx="1676520" cy="2236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7010280" y="4419720"/>
            <a:ext cx="18226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same as in the 1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pproach –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 segmentation of aortic wall tracking of moving segments of DM is introduc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-D deformable model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acking of stre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05520" y="5181480"/>
            <a:ext cx="14475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438280" y="5305320"/>
            <a:ext cx="1187640" cy="1214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62520" y="5562720"/>
            <a:ext cx="685800" cy="457200"/>
          </a:xfrm>
          <a:prstGeom prst="rightArrow">
            <a:avLst>
              <a:gd name="adj1" fmla="val 50000"/>
              <a:gd name="adj2" fmla="val 541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ditional stopping criter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ing curve segment is bounded with stationary points – tracking of moving segments (merging and splitting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tension coeffici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read coefficien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225"/>
              </a:spcBef>
              <a:spcAft>
                <a:spcPts val="1225"/>
              </a:spcAft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pping condi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716360" y="4005360"/>
                <a:ext cx="228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716360" y="4581360"/>
                <a:ext cx="12034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-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716360" y="5445000"/>
                <a:ext cx="2284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gt;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2513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2920" y="582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094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2096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8098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8098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22096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6094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70102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8"/>
          <a:stretch/>
        </p:blipFill>
        <p:spPr>
          <a:xfrm>
            <a:off x="5410080" y="27432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9"/>
          <a:stretch/>
        </p:blipFill>
        <p:spPr>
          <a:xfrm>
            <a:off x="7010280" y="4572000"/>
            <a:ext cx="1524240" cy="1495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0"/>
          <a:stretch/>
        </p:blipFill>
        <p:spPr>
          <a:xfrm>
            <a:off x="5410080" y="4572000"/>
            <a:ext cx="15242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3D D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opping of DM penetration into surrounding tissue in aortic wall segmentation – pre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reconstruction of outer aortic border with some information flow among neighboring sl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nstruction of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ventional methods are use to enhance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reconstruction of weak outer border knowledge of aortic shape and aneurysm is utiliz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Quasi-convex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tance map and its gradient in radial direction is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992320" y="3581280"/>
          <a:ext cx="3235320" cy="27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2320" y="3581280"/>
                    <a:ext cx="32353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cifications – sediments of calcium inside aortic 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bright regions on CT slices – introduces inhomogeneity into aortic wall 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be used in estimation of position of weak outer aortic b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219320" y="5029200"/>
            <a:ext cx="136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89548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1370160" cy="16398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6248520" y="5029200"/>
            <a:ext cx="1639800" cy="16398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7315200" y="3352680"/>
            <a:ext cx="136224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4572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20574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36576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9"/>
          <a:stretch/>
        </p:blipFill>
        <p:spPr>
          <a:xfrm>
            <a:off x="52578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0"/>
          <a:stretch/>
        </p:blipFill>
        <p:spPr>
          <a:xfrm>
            <a:off x="6858000" y="1600200"/>
            <a:ext cx="1500120" cy="1555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1"/>
          <a:stretch/>
        </p:blipFill>
        <p:spPr>
          <a:xfrm>
            <a:off x="4572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2"/>
          <a:stretch/>
        </p:blipFill>
        <p:spPr>
          <a:xfrm>
            <a:off x="20574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3"/>
          <a:stretch/>
        </p:blipFill>
        <p:spPr>
          <a:xfrm>
            <a:off x="3657600" y="3276720"/>
            <a:ext cx="1500120" cy="155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4"/>
          <a:stretch/>
        </p:blipFill>
        <p:spPr>
          <a:xfrm>
            <a:off x="5257800" y="3276720"/>
            <a:ext cx="1500120" cy="1555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52280" y="4952880"/>
            <a:ext cx="87631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62720" y="304920"/>
            <a:ext cx="1911240" cy="2290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5486400" y="4572000"/>
            <a:ext cx="1684440" cy="1752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7238880" y="45720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1905120" y="4572000"/>
            <a:ext cx="168408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15876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548640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1911240" y="2666880"/>
            <a:ext cx="1684440" cy="175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3657600" y="265428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0"/>
          <a:stretch/>
        </p:blipFill>
        <p:spPr>
          <a:xfrm>
            <a:off x="7238880" y="2660760"/>
            <a:ext cx="1758960" cy="175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36576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7219800" y="304920"/>
            <a:ext cx="19242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formable models are curves or surfaces defined within an image domain that can move under the influence of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defined within the curve or surface itself,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x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which are computed from the image da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rd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2120" y="3962520"/>
          <a:ext cx="7705440" cy="285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7054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348000" y="1557360"/>
          <a:ext cx="579600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1557360"/>
                    <a:ext cx="5796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gmentation of aortic interior and aortic wall using 2-D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ortic interior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edge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ter aortic boundary – aortic wall: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lice by slice segmentation with information flow among neighboring slic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modifications to overcome problems in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of DM in aortic interior segmentation using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n-serial slice sequence in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ization in aortic wall segmentation using segmentation results of aortic interi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eed function in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region based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M holds 5 term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stant speed term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tant expansion of D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rvature based term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astic proper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09680" y="3124080"/>
                <a:ext cx="4800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λ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63" name=""/>
          <p:cNvGrpSpPr/>
          <p:nvPr/>
        </p:nvGrpSpPr>
        <p:grpSpPr>
          <a:xfrm>
            <a:off x="7086600" y="2590920"/>
            <a:ext cx="1752480" cy="531720"/>
            <a:chOff x="7086600" y="2590920"/>
            <a:chExt cx="1752480" cy="531720"/>
          </a:xfrm>
        </p:grpSpPr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7086600" y="2590920"/>
                  <a:ext cx="17524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Φ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V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∇</m:t>
                          </m:r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"/>
            <p:cNvSpPr/>
            <p:nvPr/>
          </p:nvSpPr>
          <p:spPr>
            <a:xfrm>
              <a:off x="7964640" y="2952720"/>
              <a:ext cx="1425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012000" y="4005360"/>
                <a:ext cx="8046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084720" y="4869000"/>
                <a:ext cx="2221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590544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that enforces curvature similarity of inner and outer aortic b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age based component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ly similar pixels are allow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rm based on neighboring, already segmented sli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908680" y="2255760"/>
                <a:ext cx="3083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κ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t xml:space="preserve">κ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κ</m:t>
                                  </m:r>
                                </m:e>
                                <m:sub>
                                  <m:r>
                                    <m:t xml:space="preserve">u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740640" y="3540240"/>
                <a:ext cx="17208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137280" y="5160960"/>
                <a:ext cx="27478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Φ</m:t>
                        </m:r>
                        <m:r>
                          <m:t xml:space="preserve">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6934320" y="495288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94360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1219320" cy="1625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7391520" y="1600200"/>
            <a:ext cx="1218960" cy="1625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502920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124080" y="3276720"/>
            <a:ext cx="1689120" cy="1638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6934320" y="3276720"/>
            <a:ext cx="1689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4</a:t>
            </a:r>
            <a:r>
              <a:rPr b="0" lang="en-US" sz="4400" spc="-1" strike="noStrike" baseline="30000">
                <a:solidFill>
                  <a:srgbClr val="ffcc00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approac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parison with manually corrected semiautomatic metho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correlation coefficient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,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an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5,39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andard deviation of relative error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9,68%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35680" y="2133720"/>
          <a:ext cx="3976560" cy="41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5680" y="2133720"/>
                    <a:ext cx="3976560" cy="41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 methods have been presented for segmentation of abdominal aortic aneurysm that require minimal user interven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are based on geometric deformable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differ in a way of solving the specific problem of aortic wall seg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thods have been tested on patient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ssible application of the methods is in diagnostics, procedure planning and condition track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four methods do not function well in the presence of strong image degradation such as artifacts produced by metal parts of stent graft dev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t is not possible to use these methods in postoperative condition trac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st successful is the method that utilizes knowledge of aortic sha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nternal forc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are designed to keep the model smooth during deform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external forces are defined to move the model toward an object boundary or other desired features within an im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Ms often combine several image processing methods and incorporates prior information about object being segmen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obustness to both image noise and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sma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boundary gap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goal is to describe the object in the image using a mathematical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itial deformable model is deformed toward its final shape with the help of various fac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ery successful application in medical image segment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ssible application in 2-D space and also in higher dimensional sp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RA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irst type of deformable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del is given in parametric for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blem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segment complex objects in a straight forward mann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nable to change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EOMET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re recent 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volution of DM depends on geometric properties rather then parameteriz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lves problems of parametric D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hanges topolog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an model complex shap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ed on curve evolution theory or minimization of energ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tilizes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level set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lgorith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urve is represented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mplicitly as a set of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zero valued p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rawback is higher complexity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ue to increased number of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ut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904760" cy="1900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876920"/>
            <a:ext cx="255420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036"/>
            </a:gs>
            <a:gs pos="50000">
              <a:srgbClr val="0d0d69"/>
            </a:gs>
            <a:gs pos="100000">
              <a:srgbClr val="0d003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ometric deformable model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3520" y="2209680"/>
          <a:ext cx="4876560" cy="30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4876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70720" y="3733920"/>
                <a:ext cx="2603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∇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76520" y="5334120"/>
                <a:ext cx="2322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dis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581800" y="4724280"/>
                <a:ext cx="2933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V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391520" y="4648320"/>
            <a:ext cx="228600" cy="685800"/>
          </a:xfrm>
          <a:prstGeom prst="ellipse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1600" y="5410080"/>
            <a:ext cx="30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difference between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arious model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3:03:47Z</dcterms:created>
  <dc:creator>ZESOI</dc:creator>
  <dc:description/>
  <dc:language>en-US</dc:language>
  <cp:lastModifiedBy>GOR</cp:lastModifiedBy>
  <dcterms:modified xsi:type="dcterms:W3CDTF">2004-07-20T10:35:37Z</dcterms:modified>
  <cp:revision>150</cp:revision>
  <dc:subject/>
  <dc:title>Deformabilni model za segmentaciju medicnskih slika</dc:title>
</cp:coreProperties>
</file>